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94A-D0E2-4782-84C0-5DE31ADB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591-3FF3-421A-9D04-111B5784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755-B6EC-40D3-8984-39585095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0F8-566B-4F37-9559-ED5C60F8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5359-1C43-4E55-AB78-5805532E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7768-0D2C-474A-AB13-EDB3F4A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1252-9342-45FC-85D8-FC2ED65F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7A33-7099-4A32-A6CB-294073E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2818-A75A-42D0-9A4E-3D57DF2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D0FC-487A-4120-8887-9D5674DB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2825-6E7B-4316-BBE8-5536F00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64E-18BD-4141-8413-66707EBD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6868-1903-46CF-9171-97BD612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D3C6-3879-42ED-9898-1D4159D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2D7-6C58-4D98-92D1-CF6904A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4213-C512-4091-B3CE-EE57B269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E31A-2B33-46B4-B0F4-7C5E9D83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B02-4C39-4298-B81E-E5D2164B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D50-537F-4D11-A782-D80EC63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C3E-CB1B-4414-A346-8D25ADA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12F-015D-450A-9182-AB18E6B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2AA-916E-4900-8CF2-FAF34F5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7F1-B1A0-4AD4-A94A-13A682AE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1C9-AA77-4F76-8AD9-6391680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500C-272A-4416-80AC-5576485FCF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4450-43F0-41F1-A9F2-D56B4C228D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uy 2030 on todays equivalent of 2000 a month workers have to set aside 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vin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s or beliefs considered unsophisticated and naï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47246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keness or model, fe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ce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ise above or g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2895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mbr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nse, displeasure, doubt or hos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nctu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excessive self-righteousness or smug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Practice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vocabulary war sentence. Use 5 of the words in one sentence that makes sense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 we get a reference to what the title means. Why is it a sin to kill a mockingbird? How could this function as a metap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 children a little disappointed and a little ashamed of Atticus compared to other fa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Cal to run to the neighbors banging on do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tticus do that surprises the children and makes them realize they don’t know everything about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Jem say that they should not tell anyone at school about this inc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cus-One of the most famous characters in American Literature. He acts as a sort of moral compass in the novel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: Find one quote from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different chapters that shows what kind of man Atticus i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            Quote                Personality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019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apters 11 and 12 fo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y 2030 on today’s equivalent of $2,000 a month, workers have to set aside $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righ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cused Freewri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r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orgo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ed hat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Unit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if it doesn’t includ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d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n-out or we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33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uri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esome, horrible or revo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spaper gave all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f the cr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tori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ving praise, reward or 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tul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impatient irritation, especially over something mi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ga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tul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of her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roga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usive 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er prerogative to choose the first song at the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4:41:43Z</dcterms:created>
  <dc:creator>Angie</dc:creator>
  <dc:description/>
  <dc:language>en-US</dc:language>
  <cp:lastModifiedBy>Angie</cp:lastModifiedBy>
  <dcterms:modified xsi:type="dcterms:W3CDTF">2009-02-10T05:16:34Z</dcterms:modified>
  <cp:revision>3</cp:revision>
  <dc:subject/>
  <dc:title>DOL</dc:title>
</cp:coreProperties>
</file>